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6F65-BB6C-4B1E-8FA0-570E5B3E5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94C9-7299-4853-8693-0A36D42DD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1C43-F71C-4FFE-BB1A-79853DE28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0C2B-035C-4DFA-A3F8-CFDC42E05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DEC1-444B-45A2-A95D-9AE0A050B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EFA7-C2B6-4EF9-A5CD-173F43AD4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2F38-7C4E-4CC4-A8CA-E30C15E96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C62E-12CC-42E6-8DF7-870180644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76A2-AAB7-4102-BF4F-87641E911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1DB5-1736-4D52-BF47-1125C6BF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2FF6-8745-4E4D-97C0-EA63C328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65CB-4429-4874-AE5F-21ED6EB8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3936A-571F-404D-96D7-AD1D435C5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quistadors 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-Columbian Civiliz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Lauren Seig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eaa4"/>
            </a:gs>
            <a:gs pos="100000">
              <a:srgbClr val="f4e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2 Identify the three major pre-Columbian civilizations that existed in Central and South America (Maya, Aztec, and Inca) and their locations. Describe their political structures, religious practices, and use of sla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4 Explain why the Aztec and Inca civilizations declined in the 16th centu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the encounters between Cortez and Montez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the encounters between Pizarro and the In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the goals of the Spanish conquista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the effects of European diseases, particularly smallpox, throughout the Western hemisp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e8a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zte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685440"/>
            <a:ext cx="40384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ztecs were polytheistic. Think polythei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y = 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o = g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ztecs city was Tenochtitlan( a city built in the center of a lake), or what is today Mexico C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723920" y="685440"/>
            <a:ext cx="40388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ztecs leader was Montezuma, their most powerful head of pow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ztecs thought that sacrifice was very import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ztecs sacrificed more than 1,000 people a ye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1295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12952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0" t="5016" r="46224" b="29687"/>
          <a:stretch/>
        </p:blipFill>
        <p:spPr>
          <a:xfrm>
            <a:off x="4724280" y="3200400"/>
            <a:ext cx="3962520" cy="3048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212200" y="6248520"/>
            <a:ext cx="24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ulty.umf.maine.e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rcRect l="0" t="75997" r="55631" b="0"/>
          <a:stretch/>
        </p:blipFill>
        <p:spPr>
          <a:xfrm>
            <a:off x="1295280" y="4648320"/>
            <a:ext cx="3429000" cy="15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y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7621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yas were located on the Mexican Coast in the Yucatan Peninsul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did not have just one Capital City so it was difficult for the Spanish Conquistadors to take them over entire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gion did not contain as much gold as all the other civiliza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well as the Aztecs the Mayans were poly=man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o =gods poly theist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yans had slaves who in some circumstances could gain their freedom back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74720" y="5562000"/>
            <a:ext cx="24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ulty.umf.maine.e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60509" t="-4218" r="508" b="19795"/>
          <a:stretch/>
        </p:blipFill>
        <p:spPr>
          <a:xfrm>
            <a:off x="533520" y="3276720"/>
            <a:ext cx="3124080" cy="3581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rcRect l="0" t="75997" r="55631" b="0"/>
          <a:stretch/>
        </p:blipFill>
        <p:spPr>
          <a:xfrm>
            <a:off x="4038480" y="3733920"/>
            <a:ext cx="3429000" cy="15523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rcRect l="0" t="75997" r="55631" b="0"/>
          <a:stretch/>
        </p:blipFill>
        <p:spPr>
          <a:xfrm>
            <a:off x="4038480" y="3733920"/>
            <a:ext cx="3429000" cy="15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9a1b"/>
            </a:gs>
            <a:gs pos="100000">
              <a:srgbClr val="d68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0"/>
            <a:ext cx="40384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cas were located in South America, in the Andes Mountains in Per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ir Capital city was known as Cuz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cas had no written down language, although they still had a spoken language. They also used knots on string for speak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cas had an empire of 20 million peop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well as The Mayas and Aztecs the Incas were polytheistic. The Incas rarely sacrificed human people, they sacrificed anim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sacrificed human children for their sacrifice, not adul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4120" y="0"/>
            <a:ext cx="3657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cas rarely sacrificed human people, they sacrificed anim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imals they sacrificed were their llamas that they used for mostly everyth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on special occasions the Incas sacrificed hu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886200" y="1219320"/>
            <a:ext cx="1457280" cy="56386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639760" y="6490440"/>
            <a:ext cx="26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ulty.umf.maine.e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1111"/>
            </a:gs>
            <a:gs pos="100000">
              <a:srgbClr val="f8e8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t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tez was the conquistador to take over The Aztec civil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ztecs thought that Cortez was Quetzacoatl their pale skinned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ir prophecies had said that their god would come in 1513 the same year that Cortez captured the Aztec capi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tez was not a god although the Aztecs thought he w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zza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zzaro was an explorer and conquistador that was the man to take over the Incas civilization in Per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cas were very accessible to the Spanish because in 1531 they were fighting in a civil war. (civil war when the same country is fighting with each other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tahualpa was held for ransom with Pizzaro for gold and silver, the Incas gave gold as well as the sil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t they still killed Atahualpa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id the Spanish explorers and conquistadors change Central and South America forever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panish changed Central and South America forever because now most of Central and South America speak complete Spani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nother way is that now the maximum of the people believe in Christianity and no longer prey to their personal and native go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all the Aztec, Mayan, and Inca celebrations and culture are now completely abandoned fore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0" y="2133360"/>
            <a:ext cx="91440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2T15:17:34Z</dcterms:created>
  <dc:creator>jklib</dc:creator>
  <dc:description/>
  <dc:language>en-US</dc:language>
  <cp:lastModifiedBy>jklib</cp:lastModifiedBy>
  <dcterms:modified xsi:type="dcterms:W3CDTF">2011-11-29T16:17:29Z</dcterms:modified>
  <cp:revision>8</cp:revision>
  <dc:subject/>
  <dc:title>Slide 1</dc:title>
</cp:coreProperties>
</file>